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31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1.jpeg" ContentType="image/jpeg"/>
  <Override PartName="/ppt/media/image18.pct" ContentType="image/x-pict"/>
  <Override PartName="/ppt/media/image20.pct" ContentType="image/x-pict"/>
  <Override PartName="/ppt/media/image14.pct" ContentType="image/x-pict"/>
  <Override PartName="/ppt/media/image15.pct" ContentType="image/x-pict"/>
  <Override PartName="/ppt/media/image16.pct" ContentType="image/x-pict"/>
  <Override PartName="/ppt/media/image1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761-2919-4B49-87C5-1AABDC4E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24FF-C230-4B65-B4F7-20BC600A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433-9977-4D68-9340-403D689A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F42-278B-4C96-B409-B0EA4BFD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DA12-B3B9-432F-B91B-9BD07C82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D1EA-411C-420F-9F95-7B1324B6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CB27-A1C1-43AA-92C3-38DC2EB2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CED4-8622-4AD1-99D9-BB6A5AC9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140E-CD9D-4D76-99E4-FF3CEE35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6B35-613D-4CEB-AF11-C71485E7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BCD1-51A5-40E0-8DBB-7C4FD38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872-FFAA-46C9-85A9-83878327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931D-F642-4F26-BA00-A3EAD26E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BEFF-C793-4D15-B6FC-FBC5313B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5034-587D-478E-84F8-87CB4886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26B1-50EF-4E89-823D-290FA8E0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4EF0-980F-493F-BC3D-654E6F21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7B7-F69C-49B1-BD2D-2447A63D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BD8-AFEB-4571-B858-5F2BB7DA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4B0-2B8F-4D1D-AA3D-4B2A5EA9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CEC-A8B3-4465-9127-3A8AF729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F4D-302F-409F-B555-EA8A380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946-7848-4B71-9436-CA386231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920-8917-4B55-AC21-C09FB5EE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B296-FCA2-4DD0-B3DF-538AA09D2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99EF-AE47-469E-8EC2-AD55F36C5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ct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ct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ct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ct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ct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ct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pct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ct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 Numbers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2360" y="1447920"/>
          <a:ext cx="529128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60" y="1447920"/>
                    <a:ext cx="529128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81080" y="1447920"/>
          <a:ext cx="54356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1447920"/>
                    <a:ext cx="54356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447920"/>
          <a:ext cx="45770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7920"/>
                    <a:ext cx="45770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1447920"/>
          <a:ext cx="45770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7920"/>
                    <a:ext cx="45770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38240" y="1447920"/>
          <a:ext cx="371808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8240" y="1447920"/>
                    <a:ext cx="371808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1120" y="1447920"/>
          <a:ext cx="443376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447920"/>
                    <a:ext cx="443376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111400" y="1590840"/>
          <a:ext cx="1573200" cy="214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1400" y="1590840"/>
                    <a:ext cx="1573200" cy="21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897200" y="1590840"/>
          <a:ext cx="2001600" cy="214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7200" y="1590840"/>
                    <a:ext cx="2001600" cy="21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09560" y="1590840"/>
          <a:ext cx="2575080" cy="214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9560" y="1590840"/>
                    <a:ext cx="2575080" cy="21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1676520"/>
          <a:ext cx="54356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676520"/>
                    <a:ext cx="54356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371600" y="1676520"/>
          <a:ext cx="157320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676520"/>
                    <a:ext cx="157320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71560" y="1676520"/>
          <a:ext cx="643716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1560" y="1676520"/>
                    <a:ext cx="643716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0" y="2133720"/>
          <a:ext cx="5006880" cy="17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133720"/>
                    <a:ext cx="500688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28880" y="2062080"/>
          <a:ext cx="5721120" cy="18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8880" y="2062080"/>
                    <a:ext cx="57211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00080" y="1776240"/>
          <a:ext cx="7580520" cy="24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1776240"/>
                    <a:ext cx="7580520" cy="24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2362320"/>
          <a:ext cx="8915400" cy="19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62320"/>
                    <a:ext cx="891540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373480" y="2651040"/>
          <a:ext cx="4168440" cy="13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3480" y="2651040"/>
                    <a:ext cx="416844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1480" y="2362320"/>
          <a:ext cx="6832440" cy="196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2362320"/>
                    <a:ext cx="683244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3520" y="2590920"/>
          <a:ext cx="8331120" cy="168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590920"/>
                    <a:ext cx="8331120" cy="16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7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913120" y="2541600"/>
          <a:ext cx="3570120" cy="178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3120" y="2541600"/>
                    <a:ext cx="357012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616120" y="2541600"/>
          <a:ext cx="4165560" cy="178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6120" y="2541600"/>
                    <a:ext cx="416556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085760" y="1676520"/>
          <a:ext cx="214632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5760" y="1676520"/>
                    <a:ext cx="2146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9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021040" y="2244600"/>
          <a:ext cx="5356080" cy="238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1040" y="2244600"/>
                    <a:ext cx="535608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880920" y="2543040"/>
          <a:ext cx="7637760" cy="17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0920" y="2543040"/>
                    <a:ext cx="76377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2666880"/>
          <a:ext cx="7620120" cy="164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666880"/>
                    <a:ext cx="762012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895480" y="2362320"/>
          <a:ext cx="2349720" cy="22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362320"/>
                    <a:ext cx="234972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860560" y="2362320"/>
          <a:ext cx="2421000" cy="22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60560" y="2362320"/>
                    <a:ext cx="242100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57400" y="1676520"/>
          <a:ext cx="200160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7400" y="1676520"/>
                    <a:ext cx="200160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57400" y="1676520"/>
          <a:ext cx="200160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7400" y="1676520"/>
                    <a:ext cx="200160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5760" y="1676520"/>
          <a:ext cx="214632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5760" y="1676520"/>
                    <a:ext cx="2146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85760" y="1676520"/>
          <a:ext cx="214632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5760" y="1676520"/>
                    <a:ext cx="2146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1447920"/>
          <a:ext cx="45770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7920"/>
                    <a:ext cx="45770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447920"/>
          <a:ext cx="4577040" cy="243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7920"/>
                    <a:ext cx="45770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3:03:19Z</dcterms:created>
  <dc:creator>Parkland High School</dc:creator>
  <dc:description/>
  <dc:language>en-US</dc:language>
  <cp:lastModifiedBy>Parkland High School</cp:lastModifiedBy>
  <dcterms:modified xsi:type="dcterms:W3CDTF">2011-11-01T12:35:44Z</dcterms:modified>
  <cp:revision>3</cp:revision>
  <dc:subject/>
  <dc:title>Complex Numbers    </dc:title>
</cp:coreProperties>
</file>